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31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8.wmf" ContentType="image/x-wmf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71F7-7130-4AF2-AECC-ADD5850F79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78AB-D28D-410F-B5C5-4AB65B4A9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EAA-5F35-4A3A-84DB-CE873FB22C4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4.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82A6-33ED-4BE6-81C7-FC25D200161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ynamicGraphics/JupiterImages (courtesy of McGraw-Hill Higher Educatio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478-A1BA-4E8B-A3C7-62E996C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9DF-6770-4444-A2AF-E7F8D0B2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130-F240-43BB-929D-687417E8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E8E9-FFF9-4BF9-8953-A1AA617E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5676-11A4-4EAA-BA75-5B6DB2A4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5A6A-BD08-465A-963C-2558151C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AFC2-F5AA-4A91-A31D-753AC26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E57-D938-4BFD-8704-CD486EA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457F-CA67-4513-98E2-3E1599D6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C17F-3687-4627-B649-8F4E1B26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1B3C-2990-466C-BE97-7A4AB868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8BD8-DBD0-43D1-8F60-0D372D20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8FC7-77DA-4EC8-BCF8-24EC3C8B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80D3-E714-4CDF-AE58-A0DF978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1B06-FC0E-44EC-8A8F-E8B63DD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7E26-B5C9-4951-AAAE-5F6712F9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C4F6-DE40-44F2-9E4F-6510035F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D92-9C65-4AD1-9A22-4F7CAA05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01F-3F00-4E7B-A5A5-C9D93276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065-AC0D-47FB-82E4-310CFCE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2EF-CBEA-467E-ABE9-D08956DA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917-2171-401C-8B15-3F0351B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9477-73D1-4D4D-891E-AA5E881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23-4DCE-4EB9-92B1-AAAE8D8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FDB-4450-479F-A43B-C921554B4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52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400440"/>
            <a:ext cx="4572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520" y="640044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2859-2BF8-4752-994F-BD6B25823C3B}" type="slidenum">
              <a:rPr b="0" lang="en-US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63400" y="1030320"/>
            <a:ext cx="180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6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1640" y="380880"/>
            <a:ext cx="6102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ssessment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f Muscular Fitnes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2639880" y="638280"/>
            <a:ext cx="0" cy="5540400"/>
          </a:xfrm>
          <a:prstGeom prst="line">
            <a:avLst/>
          </a:prstGeom>
          <a:ln w="93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rcRect l="17499" t="-77320" r="9860" b="-64948"/>
          <a:stretch/>
        </p:blipFill>
        <p:spPr>
          <a:xfrm>
            <a:off x="447840" y="1035000"/>
            <a:ext cx="3120840" cy="1191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787320" y="67320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hap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Picture 9" descr="backmuscle"/>
          <p:cNvPicPr/>
          <p:nvPr/>
        </p:nvPicPr>
        <p:blipFill>
          <a:blip r:embed="rId4"/>
          <a:stretch/>
        </p:blipFill>
        <p:spPr>
          <a:xfrm>
            <a:off x="5273640" y="2174760"/>
            <a:ext cx="3870360" cy="4683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backo049"/>
          <p:cNvPicPr/>
          <p:nvPr/>
        </p:nvPicPr>
        <p:blipFill>
          <a:blip r:embed="rId5"/>
          <a:stretch/>
        </p:blipFill>
        <p:spPr>
          <a:xfrm>
            <a:off x="2743200" y="2362320"/>
            <a:ext cx="198108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muscleboy_curl"/>
          <p:cNvPicPr/>
          <p:nvPr/>
        </p:nvPicPr>
        <p:blipFill>
          <a:blip r:embed="rId6"/>
          <a:stretch/>
        </p:blipFill>
        <p:spPr>
          <a:xfrm>
            <a:off x="2666880" y="4343400"/>
            <a:ext cx="2271960" cy="131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80880" y="2819520"/>
          <a:ext cx="1771920" cy="35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2819520"/>
                    <a:ext cx="17719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aining Principles/Term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739800" y="1447560"/>
            <a:ext cx="76629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Specific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raining in a specific way for a specific result or 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verloa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 training stress or intensity greater than what a client is use to in order to see continual physiological adapt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gress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s the training status improves over time, training stress or intensity continues to incre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ypertroph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ncrease in the size of the muscle fib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troph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A reduction of muscle size due to detraining or 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uscle Fact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39800" y="2362320"/>
            <a:ext cx="766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ything is driven by musc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is more dense than fa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t takes up 28% more volume than musc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cle is wet.  Fat is d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people gain 5-5 ½ lbs of muscle over 16 weeks of train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lb. increase in muscle = 50 kcal increase/day of RM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uscle Fact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39800" y="2286000"/>
            <a:ext cx="766296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ter age 30, people start to lose muscle ma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aging, motor nerves (nerves that turn on muscle fibers) become disconnected from individual muscle fib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imated by age 70, 15% of the motor nerves become disconnected from their fib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y age 75, about 25% of men and 75% of women can NOT lift more than 10 lb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6858000" y="6094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6845400" y="5251320"/>
            <a:ext cx="162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ypes of Muscle Action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39800" y="1523880"/>
            <a:ext cx="7662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Concentr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Shortening of the muscle occurs. Positive ph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Eccentri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Lengthening of the muscle occurs.  Negative pha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Isometr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Muscle is activated and develops force, but no movement occu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is joint-angle specific.  Increase in muscle fiber recruitment at the trained ang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oal to increase strength at the weakest point.  Helps with sticking join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d in rehab/physical therap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otonic Train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39800" y="1828800"/>
            <a:ext cx="766296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st Common-referred to as weight training with free weights or machi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most beneficial to overall health – strength, tone, endur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d tendon and ligament streng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ss risk of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reased incidence of arthritis and low back p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d bone strength, energy and fat los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2"/>
          <a:stretch/>
        </p:blipFill>
        <p:spPr>
          <a:xfrm>
            <a:off x="324000" y="596880"/>
            <a:ext cx="1587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TT Principle for Strength Train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1" name="Picture 3" descr="fah_0404"/>
          <p:cNvPicPr/>
          <p:nvPr/>
        </p:nvPicPr>
        <p:blipFill>
          <a:blip r:embed="rId2"/>
          <a:stretch/>
        </p:blipFill>
        <p:spPr>
          <a:xfrm>
            <a:off x="762120" y="838080"/>
            <a:ext cx="7467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erm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9800" y="1599840"/>
            <a:ext cx="7662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pet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One complete movement of an exerc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Group of repeti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petition Max  (RM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Maximal number of reps per set that can be performed with proper lifting technique using a given resistenc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R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Heaviest resistance that can be used for 1 complete repetition of an exercise.  (Prediction chart on page 10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Amount of weight lifted on a particular se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increase intensity by: increasing wt., reps, sets or decreasing rest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1390680" y="5289480"/>
            <a:ext cx="161280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ommon Muscular Strength Assessments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grip Tes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rocedures on p. 80 AC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rms are provided on p. 79, Table 5-1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2038320" y="3505320"/>
            <a:ext cx="3067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rocedures for 1RM Tes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9880" y="15112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The subject performs a light warm-up of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10 repetitions at 40 to 60%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ceived maximum (i.e., “light”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moderate” effo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839880" y="3168720"/>
            <a:ext cx="78595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Following a 1-min rest with ligh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etching, the subject performs 3 to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petitions at 60 to 80% of perceiv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ximum (i.e., “moderate” to “hard”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ffo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5508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25320" y="762120"/>
            <a:ext cx="8264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rocedures for 1RM Testing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39880" y="19144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The subject attempts a 1RM lift. If the lif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s successful, a rest of 3 to 5 min is taken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goal is to find the 1RM within 3 to 5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ximal effor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839880" y="3571920"/>
            <a:ext cx="785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The 1RM is reported as the weight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st successfully completed lif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~AUT0105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181160"/>
            <a:ext cx="9144000" cy="542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musclegrl_curl"/>
          <p:cNvPicPr/>
          <p:nvPr/>
        </p:nvPicPr>
        <p:blipFill>
          <a:blip r:embed="rId3"/>
          <a:stretch/>
        </p:blipFill>
        <p:spPr>
          <a:xfrm>
            <a:off x="380880" y="0"/>
            <a:ext cx="1122480" cy="1374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muscleboy_curl"/>
          <p:cNvPicPr/>
          <p:nvPr/>
        </p:nvPicPr>
        <p:blipFill>
          <a:blip r:embed="rId4"/>
          <a:stretch/>
        </p:blipFill>
        <p:spPr>
          <a:xfrm>
            <a:off x="6324480" y="0"/>
            <a:ext cx="2271960" cy="131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pe02365_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3200400" y="228600"/>
            <a:ext cx="9604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39880" y="1511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Explain the purpose of the test to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839880" y="234936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Inform client of proper breat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ique (i.e., exhale when pus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way from the flo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2082960" y="3968640"/>
            <a:ext cx="31748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839880" y="1511280"/>
            <a:ext cx="7872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For male clients: Standard “up” posi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ith hands shoulder-width apart, back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ight, head up, using the toes as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ivotal poi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39880" y="3111480"/>
            <a:ext cx="785952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For female clients: Modified “knee push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” position, with legs together, low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egs in contact with mat with ankle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lantar flexed, back straight, hand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ulder-width apart, head 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te: Some males need to use modifi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sition, and some females can use full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ody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839880" y="1511280"/>
            <a:ext cx="7872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The subject must lower the body until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hin touches the mat. The abdome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ould not touch the 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839880" y="273060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The subject’s back must be straight at all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s, and the subject must push up to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raight-arm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838080" y="394956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Demonstrate the test, and allow the cli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practice if des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15228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444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625320" y="67320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Push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839880" y="1511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. Remind the client that brief rest is allow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only in the up posi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839880" y="2352600"/>
            <a:ext cx="7859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9. Begin the test when the client is ready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 count the total number of push-up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at the client completes before reac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haus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738360" y="3952800"/>
            <a:ext cx="785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. The client’s score is the total number of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ush-ups perform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46360" y="4789440"/>
            <a:ext cx="77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1.  Percentiles can be found on p. 87 ACS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13184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"/>
          <p:cNvSpPr/>
          <p:nvPr/>
        </p:nvSpPr>
        <p:spPr>
          <a:xfrm>
            <a:off x="625320" y="66024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839880" y="14986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. Explain the purpose of the test to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839880" y="2336760"/>
            <a:ext cx="7859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2. Inform the client of proper breath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echnique (exhale when curling up from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floor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38080" y="355608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3. Individual assumes a supine position on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at with the knees bent 90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838080" y="4397400"/>
            <a:ext cx="785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4. The arms are at the sides, with finge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uching a piece of masking tap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0" y="7632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476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625320" y="53352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839880" y="1295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5. A second piece of masking tape is plac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10 cm apa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39880" y="2438280"/>
            <a:ext cx="785952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6. A metronome is set to 50 beats/min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individual does slow, controlled curl-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ps to lift the shoulder blades off the ma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(trunk makes a 30° angle with the mat) i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ime with the metronome (25 curl-ups/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n). The low back should be flattene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fore curling up.  The test is done for 1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inu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30492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rcRect l="0" t="7560" r="9860" b="1375"/>
          <a:stretch/>
        </p:blipFill>
        <p:spPr>
          <a:xfrm>
            <a:off x="482760" y="100476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625320" y="533520"/>
            <a:ext cx="8264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url-Up Test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839880" y="1295280"/>
            <a:ext cx="7872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7. Demonstrate the test, and allow the cli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practice if desi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9880" y="2133720"/>
            <a:ext cx="785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520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050840" y="2438280"/>
            <a:ext cx="707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3366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centiles by age groups and gender can be found on p. 88 AC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4"/>
          <a:stretch/>
        </p:blipFill>
        <p:spPr>
          <a:xfrm>
            <a:off x="3168720" y="4197240"/>
            <a:ext cx="22413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662040" y="1917720"/>
            <a:ext cx="802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enior Fitness Test (SF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9" name="Picture 4" descr="bullet"/>
          <p:cNvPicPr/>
          <p:nvPr/>
        </p:nvPicPr>
        <p:blipFill>
          <a:blip r:embed="rId3"/>
          <a:stretch/>
        </p:blipFill>
        <p:spPr>
          <a:xfrm>
            <a:off x="763560" y="2411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195560" y="237492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ssess the key physiological parameters (i.e., strength, endurance, agility, and balance) needed to perform common everyday physical activities that often become difficult for older individua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6" descr=""/>
          <p:cNvPicPr/>
          <p:nvPr/>
        </p:nvPicPr>
        <p:blipFill>
          <a:blip r:embed="rId4"/>
          <a:srcRect l="0" t="7560" r="9860" b="1375"/>
          <a:stretch/>
        </p:blipFill>
        <p:spPr>
          <a:xfrm>
            <a:off x="482760" y="15508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625320" y="53496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Special Considerations: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lder Adul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Picture 8" descr="bullet"/>
          <p:cNvPicPr/>
          <p:nvPr/>
        </p:nvPicPr>
        <p:blipFill>
          <a:blip r:embed="rId5"/>
          <a:stretch/>
        </p:blipFill>
        <p:spPr>
          <a:xfrm>
            <a:off x="763560" y="439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1195560" y="435600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pecific tests included in the SFT, the 30-s chair stand and the single arm curl, can be used to assess muscular strength and endurance in most older adults safely and effective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bullet"/>
          <p:cNvPicPr/>
          <p:nvPr/>
        </p:nvPicPr>
        <p:blipFill>
          <a:blip r:embed="rId3"/>
          <a:stretch/>
        </p:blipFill>
        <p:spPr>
          <a:xfrm>
            <a:off x="763560" y="1995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195560" y="1952640"/>
            <a:ext cx="738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cation of lower body streng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8" name="Picture 5" descr="bullet"/>
          <p:cNvPicPr/>
          <p:nvPr/>
        </p:nvPicPr>
        <p:blipFill>
          <a:blip r:embed="rId4"/>
          <a:stretch/>
        </p:blipFill>
        <p:spPr>
          <a:xfrm>
            <a:off x="763560" y="243684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1195560" y="2400480"/>
            <a:ext cx="7389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unt the number of times within 30 s that an individual can rise to a full stand from a seated position without pushing off with the ar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5"/>
          <a:srcRect l="0" t="7560" r="9860" b="1375"/>
          <a:stretch/>
        </p:blipFill>
        <p:spPr>
          <a:xfrm>
            <a:off x="482760" y="161784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8"/>
          <p:cNvSpPr/>
          <p:nvPr/>
        </p:nvSpPr>
        <p:spPr>
          <a:xfrm>
            <a:off x="625320" y="6094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The 30-Second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Chair Stand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bullet"/>
          <p:cNvPicPr/>
          <p:nvPr/>
        </p:nvPicPr>
        <p:blipFill>
          <a:blip r:embed="rId3"/>
          <a:stretch/>
        </p:blipFill>
        <p:spPr>
          <a:xfrm>
            <a:off x="763560" y="1596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1195560" y="1554120"/>
            <a:ext cx="7389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dication of upper body function that is important in executing many normal everyday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5" name="Picture 5" descr="bullet"/>
          <p:cNvPicPr/>
          <p:nvPr/>
        </p:nvPicPr>
        <p:blipFill>
          <a:blip r:embed="rId4"/>
          <a:stretch/>
        </p:blipFill>
        <p:spPr>
          <a:xfrm>
            <a:off x="763560" y="2805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1195560" y="2768760"/>
            <a:ext cx="7389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olves determining the number of times a dumbbell (5 lb, or 2.3 kg, for women;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8 lb, or 3.6 kg, for men) can be curled through a full range of motion in 30 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5"/>
          <a:srcRect l="0" t="7560" r="9860" b="1375"/>
          <a:stretch/>
        </p:blipFill>
        <p:spPr>
          <a:xfrm>
            <a:off x="482760" y="121932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8"/>
          <p:cNvSpPr/>
          <p:nvPr/>
        </p:nvSpPr>
        <p:spPr>
          <a:xfrm>
            <a:off x="625320" y="743040"/>
            <a:ext cx="8087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Single Arm Curl Te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Resistance Training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s the body to move against an opposing force-usually some type of equip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ular Strength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maximal amount of force a muscle or group of muscles can generate in a single maximal contraction or with a single maximal effo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ular Enduranc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– capacity to exert repetitive muscular force or the ability of the muscle to remain contracted or contract repeatedly for long periods of t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3035160" y="4648320"/>
            <a:ext cx="1689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771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LEXIBIL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12800" y="1599840"/>
            <a:ext cx="771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Flexibil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Defined as the range of motion (ROM) of a single joint or a group of joints.  It is specific to each joint.  The amount of movement is largely determined by the tightness of muscles, tendons, and ligaments that are attached to the join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nefi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muscle sor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muscle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risk of low back p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muscle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pos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Improve muscle coordin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349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4903"/>
                </a:solidFill>
                <a:latin typeface="Arial"/>
              </a:rPr>
              <a:t>Reduce the risk of inj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22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Ch05Stretching1"/>
          <p:cNvPicPr/>
          <p:nvPr/>
        </p:nvPicPr>
        <p:blipFill>
          <a:blip r:embed="rId2"/>
          <a:stretch/>
        </p:blipFill>
        <p:spPr>
          <a:xfrm>
            <a:off x="838080" y="60948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ypes of Flexibil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34903"/>
                </a:solidFill>
                <a:latin typeface="Arial"/>
              </a:rPr>
              <a:t>Active (Dynamic)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100800"/>
                </a:solidFill>
                <a:latin typeface="Arial"/>
              </a:rPr>
              <a:t>“The degree to which the force of a muscle contraction can move a joint.”  A muscle is stretched by a contraction of the opposing muscle.  Involves movement.  Dynamic shoulder flexibility would affect your ability to swing a golf club.  Important for daily activities and sports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34903"/>
                </a:solidFill>
                <a:latin typeface="Arial"/>
              </a:rPr>
              <a:t>Passive (Static)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en-US" sz="1700" spc="-1" strike="noStrike">
                <a:solidFill>
                  <a:srgbClr val="100800"/>
                </a:solidFill>
                <a:latin typeface="Arial"/>
              </a:rPr>
              <a:t>Refers to the ability to assume and maintain an extended position at one end or point in a joint’s range of motion.  It involves no muscle contraction.  An outside force or resistance provided by yourself, a partner, gravity or a weight helps the joints move through their ROM.  Easier to measure than dynamic flexibility and is usually how we refer to flexibility</a:t>
            </a: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3054240" y="4457880"/>
            <a:ext cx="296568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ITT PRINCIP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FREQUENCY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minimum of 2-3 days/week; 5-7 days/week may be better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INTENSITY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– Slowly stretc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muscles to the point of slight tension or mild discomfort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TIM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Hold the stretch for 10-30 seconds; repeating 3- 5 times.  Relax and breath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00800"/>
                </a:solidFill>
                <a:latin typeface="Arial"/>
              </a:rPr>
              <a:t>TYPE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 – Stretch the major muscle groups exercised.  Refer to the end of the chapter for exercises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8" name="Picture 4" descr="MCj03980690000[1]"/>
          <p:cNvPicPr/>
          <p:nvPr/>
        </p:nvPicPr>
        <p:blipFill>
          <a:blip r:embed="rId2"/>
          <a:stretch/>
        </p:blipFill>
        <p:spPr>
          <a:xfrm>
            <a:off x="6172200" y="4495680"/>
            <a:ext cx="1806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762120" y="762120"/>
            <a:ext cx="7924680" cy="3808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Flexibility Testin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838080" y="1447920"/>
            <a:ext cx="769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exibility of one joint does not necessarily indicate flexibility of other joints.  There is no general flexibility test for the whole bod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t and Reach te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d by almost all health related physical fitness testing batter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d extensively because it has been noted that people with low back problems often have a restricted ROM in the hamstrings and lower back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e pg. 95 ACSM for Canadian Trunk Forward Flexion test procedures and norm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4699080" y="4800600"/>
            <a:ext cx="2463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Lower Back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12800" y="1371600"/>
            <a:ext cx="77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ow Back Pain has a direct relationship to lifestyle and wellness behaviors.  Proper lifestyle choices can help prevent LBP.  Sedentary lifestyles contribute to loss of muscular strength, endurance, and a limited ROM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ow Back Pain is the number one physical complaint by individuals ages 25-60 in the U.S.  Second most common ailment for job absenteeism for ages 30-60.  It contributes for 25% of days lost for the entire work force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LBP will affect 60-80% of the American and European population at some point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$50 billion will be spent each year by government and industry for LBP (job absenteeism, disability payments, worker’s compensations, disability insurance, medical and legal fe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Most pain occurs in the lumbar (lower) and sacral region because it bears the majority of your weigh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auses of LBP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28600" y="1142640"/>
            <a:ext cx="5943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The most common cause of LBP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is physical inactivity!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Poor postur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Faulty body mechanic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Stressful living and working habit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Weak musculature – especially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the ab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Poor flexibility in the lower back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and hamstring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0800"/>
                </a:solidFill>
                <a:latin typeface="Arial"/>
              </a:rPr>
              <a:t>Smoking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00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724360" y="3024360"/>
          <a:ext cx="1710000" cy="337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3024360"/>
                    <a:ext cx="1710000" cy="33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Picture 4" descr=""/>
          <p:cNvPicPr/>
          <p:nvPr/>
        </p:nvPicPr>
        <p:blipFill>
          <a:blip r:embed="rId4"/>
          <a:stretch/>
        </p:blipFill>
        <p:spPr>
          <a:xfrm>
            <a:off x="6197760" y="1022400"/>
            <a:ext cx="1346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evention of LBP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3924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Exercise regularly to strengthen your back and abdominal muscl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Lose weight, if necessary, to lessen strain on your back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Avoid smoking (which increases degenerative changes in the spin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Lift by bending at your knees, rather than the waist, using leg muscles to do most of the wor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4903"/>
                </a:solidFill>
                <a:latin typeface="Arial"/>
              </a:rPr>
              <a:t>Receive objects from others or platforms near to your body, and avoid twisting or bending at the waist while handling or transferring i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1" name="Picture 4" descr="backtrcbody11"/>
          <p:cNvPicPr/>
          <p:nvPr/>
        </p:nvPicPr>
        <p:blipFill>
          <a:blip r:embed="rId2"/>
          <a:srcRect l="12903" t="0" r="9677" b="0"/>
          <a:stretch/>
        </p:blipFill>
        <p:spPr>
          <a:xfrm>
            <a:off x="5029200" y="1752480"/>
            <a:ext cx="3505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Avoid sitting, standing, or working in any one position for too lo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Maintain a correct posture (sit with your shoulders back and feet flat on the floor, or on a footstool or chair rung.  Stand with head and chest high, neck straight, stomach and buttocks held in, and pelvis forward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se a comfortable, supportive seat while driv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se a firm mattress, and sleep on your side with knees drawn up or on your back with a pillow under bent kne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Try to reduce emotional stress that causes muscle ten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Be thoroughly warmed-up before engaging in vigorous exercise or sport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34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4903"/>
                </a:solidFill>
                <a:latin typeface="Arial"/>
              </a:rPr>
              <a:t>Undergo a gradual progression when attempting to improve strength or athletic ability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7716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vention of LB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6489720" y="685800"/>
            <a:ext cx="143496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reatment of Low Back Pai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12800" y="1371600"/>
            <a:ext cx="77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hysical Activity – Only 1% of all back patients need surgery.  Most rehabilitation and prevention is lifestyle related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Maintain a normal weight.  Excess abdominal weight can lead to lordosis and poor postur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articipate in regular aerobic exercis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articipate in regular muscular strength and endurance activities, especially for the abdominal and back reg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Incorporate lower back and hamstring flexibility exercises.  Work all the planes of mo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7" name="Picture 4" descr="MCj01500040000[1]"/>
          <p:cNvPicPr/>
          <p:nvPr/>
        </p:nvPicPr>
        <p:blipFill>
          <a:blip r:embed="rId2"/>
          <a:stretch/>
        </p:blipFill>
        <p:spPr>
          <a:xfrm>
            <a:off x="7772400" y="3352680"/>
            <a:ext cx="13716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ACSM Guidelin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istance training should be progressive, individualized, and provide a stimulus to all the major muscle grou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set 8-10 exercises for major muscle grou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days/week minim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-20 repetitions to fatigue (RPE 19-2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:  chest press, shoulder press, tricep extension, bicep curl, lat pull-down, lower back extension, ab crunch, leg extension, leg curl, calf ra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971800" y="5334120"/>
            <a:ext cx="18162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ip of the Da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105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557"/>
                </a:solidFill>
                <a:latin typeface="Arial"/>
              </a:rPr>
              <a:t>Results in training occur with consistency and effort – a lifestyle habit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0" name="Picture 4" descr="MCj02418710000[1]"/>
          <p:cNvPicPr/>
          <p:nvPr/>
        </p:nvPicPr>
        <p:blipFill>
          <a:blip r:embed="rId2"/>
          <a:stretch/>
        </p:blipFill>
        <p:spPr>
          <a:xfrm>
            <a:off x="5791320" y="4038480"/>
            <a:ext cx="2590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bullet"/>
          <p:cNvPicPr/>
          <p:nvPr/>
        </p:nvPicPr>
        <p:blipFill>
          <a:blip r:embed="rId3"/>
          <a:stretch/>
        </p:blipFill>
        <p:spPr>
          <a:xfrm>
            <a:off x="763560" y="19954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195560" y="19526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rvation of, or enhanced, fat-free mass and resting metabolic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bullet"/>
          <p:cNvPicPr/>
          <p:nvPr/>
        </p:nvPicPr>
        <p:blipFill>
          <a:blip r:embed="rId4"/>
          <a:stretch/>
        </p:blipFill>
        <p:spPr>
          <a:xfrm>
            <a:off x="763560" y="28465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195560" y="280980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rvation of, or enhanced, bone mass with ag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7" descr="bullet"/>
          <p:cNvPicPr/>
          <p:nvPr/>
        </p:nvPicPr>
        <p:blipFill>
          <a:blip r:embed="rId5"/>
          <a:stretch/>
        </p:blipFill>
        <p:spPr>
          <a:xfrm>
            <a:off x="763560" y="3701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1195560" y="3665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glucose tolerance and insulin sensi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17840"/>
            <a:ext cx="8243640" cy="95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5320" y="6094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Benefits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f Muscular Fit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11" descr="bullet"/>
          <p:cNvPicPr/>
          <p:nvPr/>
        </p:nvPicPr>
        <p:blipFill>
          <a:blip r:embed="rId7"/>
          <a:stretch/>
        </p:blipFill>
        <p:spPr>
          <a:xfrm>
            <a:off x="763560" y="454644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2"/>
          <p:cNvSpPr/>
          <p:nvPr/>
        </p:nvSpPr>
        <p:spPr>
          <a:xfrm>
            <a:off x="1195560" y="4510080"/>
            <a:ext cx="7389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uced heart rate and blood pressure response while lifting any submaximal load (which reduces myocardial oxygen demand during activities requiring muscular forc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ullet"/>
          <p:cNvPicPr/>
          <p:nvPr/>
        </p:nvPicPr>
        <p:blipFill>
          <a:blip r:embed="rId3"/>
          <a:stretch/>
        </p:blipFill>
        <p:spPr>
          <a:xfrm>
            <a:off x="763560" y="2039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1195560" y="19969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wered risk of musculoskeletal injury, including low back 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bullet"/>
          <p:cNvPicPr/>
          <p:nvPr/>
        </p:nvPicPr>
        <p:blipFill>
          <a:blip r:embed="rId4"/>
          <a:stretch/>
        </p:blipFill>
        <p:spPr>
          <a:xfrm>
            <a:off x="763560" y="28558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1195560" y="2819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ability to carry out activities of daily living in old 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7" descr="bullet"/>
          <p:cNvPicPr/>
          <p:nvPr/>
        </p:nvPicPr>
        <p:blipFill>
          <a:blip r:embed="rId5"/>
          <a:stretch/>
        </p:blipFill>
        <p:spPr>
          <a:xfrm>
            <a:off x="763560" y="3693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1195560" y="365760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balance and decreased risk of falls in old 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6212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0"/>
          <p:cNvSpPr/>
          <p:nvPr/>
        </p:nvSpPr>
        <p:spPr>
          <a:xfrm>
            <a:off x="625320" y="6508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Health Benefits </a:t>
            </a:r>
            <a:br>
              <a:rPr sz="4400"/>
            </a:b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of Muscular Fitnes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1" descr="bullet"/>
          <p:cNvPicPr/>
          <p:nvPr/>
        </p:nvPicPr>
        <p:blipFill>
          <a:blip r:embed="rId7"/>
          <a:stretch/>
        </p:blipFill>
        <p:spPr>
          <a:xfrm>
            <a:off x="763560" y="45324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2"/>
          <p:cNvSpPr/>
          <p:nvPr/>
        </p:nvSpPr>
        <p:spPr>
          <a:xfrm>
            <a:off x="1195560" y="4495680"/>
            <a:ext cx="73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self-este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weightsquat1"/>
          <p:cNvPicPr/>
          <p:nvPr/>
        </p:nvPicPr>
        <p:blipFill>
          <a:blip r:embed="rId2"/>
          <a:srcRect l="36035" t="16817" r="14414" b="0"/>
          <a:stretch/>
        </p:blipFill>
        <p:spPr>
          <a:xfrm>
            <a:off x="0" y="0"/>
            <a:ext cx="3086280" cy="3886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~AUT0106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133720" y="2050920"/>
            <a:ext cx="6781680" cy="4807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muscleisokineticphoto9"/>
          <p:cNvPicPr/>
          <p:nvPr/>
        </p:nvPicPr>
        <p:blipFill>
          <a:blip r:embed="rId4"/>
          <a:stretch/>
        </p:blipFill>
        <p:spPr>
          <a:xfrm>
            <a:off x="6095880" y="0"/>
            <a:ext cx="2413080" cy="190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2359_"/>
          <p:cNvPicPr/>
          <p:nvPr/>
        </p:nvPicPr>
        <p:blipFill>
          <a:blip r:embed="rId5"/>
          <a:stretch/>
        </p:blipFill>
        <p:spPr>
          <a:xfrm>
            <a:off x="4114800" y="5889600"/>
            <a:ext cx="12952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bullet"/>
          <p:cNvPicPr/>
          <p:nvPr/>
        </p:nvPicPr>
        <p:blipFill>
          <a:blip r:embed="rId3"/>
          <a:stretch/>
        </p:blipFill>
        <p:spPr>
          <a:xfrm>
            <a:off x="763560" y="2039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195560" y="19969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muscular strength and muscular end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Picture 5" descr="bullet"/>
          <p:cNvPicPr/>
          <p:nvPr/>
        </p:nvPicPr>
        <p:blipFill>
          <a:blip r:embed="rId4"/>
          <a:stretch/>
        </p:blipFill>
        <p:spPr>
          <a:xfrm>
            <a:off x="763560" y="28558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195560" y="28195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speed, power, agility, and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7" descr="bullet"/>
          <p:cNvPicPr/>
          <p:nvPr/>
        </p:nvPicPr>
        <p:blipFill>
          <a:blip r:embed="rId5"/>
          <a:stretch/>
        </p:blipFill>
        <p:spPr>
          <a:xfrm>
            <a:off x="763560" y="36939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1195560" y="3657600"/>
            <a:ext cx="73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duced risk for musculoskeletal inju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166212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0"/>
          <p:cNvSpPr/>
          <p:nvPr/>
        </p:nvSpPr>
        <p:spPr>
          <a:xfrm>
            <a:off x="625320" y="638280"/>
            <a:ext cx="80870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Athletic Performance Aspects of Muscular Fitnes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7201080" y="6181560"/>
            <a:ext cx="163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bullet"/>
          <p:cNvPicPr/>
          <p:nvPr/>
        </p:nvPicPr>
        <p:blipFill>
          <a:blip r:embed="rId3"/>
          <a:stretch/>
        </p:blipFill>
        <p:spPr>
          <a:xfrm>
            <a:off x="763560" y="2413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195560" y="237024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body composition for various events o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5" descr="bullet"/>
          <p:cNvPicPr/>
          <p:nvPr/>
        </p:nvPicPr>
        <p:blipFill>
          <a:blip r:embed="rId4"/>
          <a:stretch/>
        </p:blipFill>
        <p:spPr>
          <a:xfrm>
            <a:off x="763560" y="323676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195560" y="3200400"/>
            <a:ext cx="7389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proved confidence for performing certain athletic activities involving high levels of muscular fit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7" descr="bullet"/>
          <p:cNvPicPr/>
          <p:nvPr/>
        </p:nvPicPr>
        <p:blipFill>
          <a:blip r:embed="rId5"/>
          <a:stretch/>
        </p:blipFill>
        <p:spPr>
          <a:xfrm>
            <a:off x="763560" y="44560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195560" y="4419720"/>
            <a:ext cx="7389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hanced performance in most athletic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6"/>
          <a:srcRect l="0" t="7560" r="9860" b="1375"/>
          <a:stretch/>
        </p:blipFill>
        <p:spPr>
          <a:xfrm>
            <a:off x="482760" y="2035080"/>
            <a:ext cx="8243640" cy="95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0"/>
          <p:cNvSpPr/>
          <p:nvPr/>
        </p:nvSpPr>
        <p:spPr>
          <a:xfrm>
            <a:off x="625320" y="723960"/>
            <a:ext cx="80870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1c8c"/>
                </a:solidFill>
                <a:latin typeface="Arial"/>
              </a:rPr>
              <a:t>Athletic Performance Aspects of Muscular Fitnes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(continu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9T18:22:13Z</dcterms:created>
  <dc:creator>Karen Dennis</dc:creator>
  <dc:description/>
  <dc:language>en-US</dc:language>
  <cp:lastModifiedBy>Betty Henson</cp:lastModifiedBy>
  <dcterms:modified xsi:type="dcterms:W3CDTF">2011-11-09T19:39:45Z</dcterms:modified>
  <cp:revision>11</cp:revision>
  <dc:subject/>
  <dc:title>Slide 1</dc:title>
</cp:coreProperties>
</file>